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341BB8-4FE5-4799-BB30-A8DCAFECD8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3440" y="1571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63440" y="3721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E2D7F5-E5AA-4A72-A165-F6B119CD19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63440" y="1571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146120" y="1571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63440" y="3721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146120" y="3721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CFB63-C178-494F-909A-DBD440BA4D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3440" y="1571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791440" y="1571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419080" y="1571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63440" y="3721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2791440" y="3721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419080" y="3721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F0D043-2AFD-4CAF-AEE2-3DFACF03635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63440" y="1571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9930C-9FAE-480C-B37A-930E4AE129A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63440" y="1571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173EC8-D247-4757-AEB9-67B6EBCBD9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63440" y="1571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146120" y="1571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53EB6A-0BA7-432E-9125-7CDA43E4F1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CBB46C-CD3E-4181-A70B-57A1DD331A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63440" y="655560"/>
            <a:ext cx="7772400" cy="21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76A279-5AFD-454F-9C04-662968E35B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3440" y="1571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146120" y="1571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3440" y="3721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E6D57F-12B9-412B-828A-487C3C4420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3440" y="1571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146120" y="1571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146120" y="3721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184958-BDBD-4619-9E12-E6494BCEF6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3440" y="1571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146120" y="1571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63440" y="3721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24B375-EC4F-4F52-9C8A-52DB67F630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177480" y="6543720"/>
            <a:ext cx="4373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96D4C-5F2C-4185-BB63-3522A1D8D07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69840" y="334800"/>
            <a:ext cx="1055520" cy="21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12600" y="136440"/>
            <a:ext cx="5402520" cy="39528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304920" y="762120"/>
            <a:ext cx="7924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body"/>
          </p:nvPr>
        </p:nvSpPr>
        <p:spPr>
          <a:xfrm>
            <a:off x="163440" y="1571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" descr=""/>
          <p:cNvPicPr/>
          <p:nvPr/>
        </p:nvPicPr>
        <p:blipFill>
          <a:blip r:embed="rId4"/>
          <a:stretch/>
        </p:blipFill>
        <p:spPr>
          <a:xfrm>
            <a:off x="5769000" y="76320"/>
            <a:ext cx="3222720" cy="501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 Tes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 Test Cli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52480" y="1262160"/>
            <a:ext cx="744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一、开始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有程序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TwinCAT System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TwinCAT OP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OPC Test Clien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打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ckhoff OPC Clien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窗口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57280" y="1995480"/>
            <a:ext cx="8029440" cy="4410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DAA978-C1CE-429D-B621-DEE426B580C2}" type="slidenum">
              <a:t>1</a:t>
            </a:fld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 Tes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 Test Cli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52480" y="1262160"/>
            <a:ext cx="744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二、点击菜单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ols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Logi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登录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123920" y="1857240"/>
            <a:ext cx="6759720" cy="41608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455920" y="3340080"/>
            <a:ext cx="554040" cy="349200"/>
          </a:xfrm>
          <a:prstGeom prst="wedgeEllipseCallout">
            <a:avLst>
              <a:gd name="adj1" fmla="val 717"/>
              <a:gd name="adj2" fmla="val 34092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1403BC-8748-4EBD-B1FF-33E70511289A}" type="slidenum">
              <a:t>2</a:t>
            </a:fld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 Tes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 Test Cli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52480" y="1262160"/>
            <a:ext cx="764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三、点击工具栏中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Server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标，在弹出的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 Properties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窗口选中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ckhoff.TwinCATOpcServerDA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然后点击“确定”按钮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035000" y="1895400"/>
            <a:ext cx="6923160" cy="48322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884240" y="2527200"/>
            <a:ext cx="554040" cy="349200"/>
          </a:xfrm>
          <a:prstGeom prst="wedgeEllipseCallout">
            <a:avLst>
              <a:gd name="adj1" fmla="val 717"/>
              <a:gd name="adj2" fmla="val 34092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606680" y="3241800"/>
            <a:ext cx="392040" cy="349200"/>
          </a:xfrm>
          <a:prstGeom prst="wedgeEllipseCallout">
            <a:avLst>
              <a:gd name="adj1" fmla="val 69435"/>
              <a:gd name="adj2" fmla="val -16181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807080" y="4816440"/>
            <a:ext cx="392040" cy="349200"/>
          </a:xfrm>
          <a:prstGeom prst="wedgeEllipseCallout">
            <a:avLst>
              <a:gd name="adj1" fmla="val 69435"/>
              <a:gd name="adj2" fmla="val -16181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315120" y="5695920"/>
            <a:ext cx="404640" cy="349200"/>
          </a:xfrm>
          <a:prstGeom prst="wedgeEllipseCallout">
            <a:avLst>
              <a:gd name="adj1" fmla="val -67648"/>
              <a:gd name="adj2" fmla="val 16136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700440" y="4102200"/>
            <a:ext cx="2517840" cy="349200"/>
          </a:xfrm>
          <a:prstGeom prst="wedgeEllipseCallout">
            <a:avLst>
              <a:gd name="adj1" fmla="val -38837"/>
              <a:gd name="adj2" fmla="val 34092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56D90F-0E1A-4ED1-A472-88D9D4AF7376}" type="slidenum">
              <a:t>3</a:t>
            </a:fld>
          </a:p>
        </p:txBody>
      </p:sp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 Tes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 Test Cli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52480" y="1262160"/>
            <a:ext cx="752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四、点击工具栏中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Group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标，弹出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Properties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窗口，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中自定一个名字，例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然后点击“确定”按钮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914400" y="2089080"/>
            <a:ext cx="7311960" cy="42656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601640" y="3203640"/>
            <a:ext cx="392400" cy="349200"/>
          </a:xfrm>
          <a:prstGeom prst="wedgeEllipseCallout">
            <a:avLst>
              <a:gd name="adj1" fmla="val 90078"/>
              <a:gd name="adj2" fmla="val -16181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726080" y="3952800"/>
            <a:ext cx="392040" cy="349200"/>
          </a:xfrm>
          <a:prstGeom prst="wedgeEllipseCallout">
            <a:avLst>
              <a:gd name="adj1" fmla="val -143115"/>
              <a:gd name="adj2" fmla="val -15045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11920" y="5442120"/>
            <a:ext cx="392040" cy="349200"/>
          </a:xfrm>
          <a:prstGeom prst="wedgeEllipseCallout">
            <a:avLst>
              <a:gd name="adj1" fmla="val -71458"/>
              <a:gd name="adj2" fmla="val 16136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55880" y="2616120"/>
            <a:ext cx="419040" cy="349200"/>
          </a:xfrm>
          <a:prstGeom prst="wedgeEllipseCallout">
            <a:avLst>
              <a:gd name="adj1" fmla="val -15152"/>
              <a:gd name="adj2" fmla="val 34092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646360" y="3429000"/>
            <a:ext cx="1790640" cy="349200"/>
          </a:xfrm>
          <a:prstGeom prst="wedgeEllipseCallout">
            <a:avLst>
              <a:gd name="adj1" fmla="val -34310"/>
              <a:gd name="adj2" fmla="val 34092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A60638-A653-4015-AE24-99F1C10F9C33}" type="slidenum">
              <a:t>4</a:t>
            </a:fld>
          </a:p>
        </p:txBody>
      </p:sp>
    </p:spTree>
  </p:cSld>
  <p:transition spd="med">
    <p:zoom dir="out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 Tes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 Test Cli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52480" y="1262160"/>
            <a:ext cx="770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五、点击工具栏中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Item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标，弹出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Items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窗口，先点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ckhoff.TwinCATOpcServerD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打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然后打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选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在右侧窗口中双击各个变量，例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Va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等，点击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K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按钮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08120" y="2168640"/>
            <a:ext cx="7762680" cy="45338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846440" y="2679840"/>
            <a:ext cx="554040" cy="349200"/>
          </a:xfrm>
          <a:prstGeom prst="wedgeEllipseCallout">
            <a:avLst>
              <a:gd name="adj1" fmla="val 717"/>
              <a:gd name="adj2" fmla="val 34092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665440" y="4452840"/>
            <a:ext cx="2220840" cy="1020960"/>
          </a:xfrm>
          <a:prstGeom prst="wedgeEllipseCallout">
            <a:avLst>
              <a:gd name="adj1" fmla="val -18620"/>
              <a:gd name="adj2" fmla="val -44865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141880" y="4527720"/>
            <a:ext cx="1333440" cy="1276200"/>
          </a:xfrm>
          <a:prstGeom prst="wedgeEllipseCallout">
            <a:avLst>
              <a:gd name="adj1" fmla="val 2263"/>
              <a:gd name="adj2" fmla="val -25870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19280" y="3381480"/>
            <a:ext cx="379440" cy="349200"/>
          </a:xfrm>
          <a:prstGeom prst="wedgeEllipseCallout">
            <a:avLst>
              <a:gd name="adj1" fmla="val 70083"/>
              <a:gd name="adj2" fmla="val -16181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822320" y="5286240"/>
            <a:ext cx="392400" cy="349560"/>
          </a:xfrm>
          <a:prstGeom prst="wedgeEllipseCallout">
            <a:avLst>
              <a:gd name="adj1" fmla="val 165791"/>
              <a:gd name="adj2" fmla="val -13454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10480" y="5564160"/>
            <a:ext cx="406440" cy="349200"/>
          </a:xfrm>
          <a:prstGeom prst="wedgeEllipseCallout">
            <a:avLst>
              <a:gd name="adj1" fmla="val -132814"/>
              <a:gd name="adj2" fmla="val -16954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413480" y="3355920"/>
            <a:ext cx="406440" cy="349200"/>
          </a:xfrm>
          <a:prstGeom prst="wedgeEllipseCallout">
            <a:avLst>
              <a:gd name="adj1" fmla="val 59763"/>
              <a:gd name="adj2" fmla="val -22772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F7B023-19E4-4A11-BABB-1366E2B0D41C}" type="slidenum">
              <a:t>5</a:t>
            </a:fld>
          </a:p>
        </p:txBody>
      </p:sp>
    </p:spTree>
  </p:cSld>
  <p:transition spd="med">
    <p:zoom dir="out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 Tes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 Test Cli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52480" y="1262160"/>
            <a:ext cx="744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六、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inCAT PL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中读取的变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771480" y="1852560"/>
            <a:ext cx="7601040" cy="4565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39D171-660C-444E-AA63-340DCEEA0611}" type="slidenum">
              <a:t>6</a:t>
            </a:fld>
          </a:p>
        </p:txBody>
      </p:sp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 Tes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 Test Cli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411280" y="2660760"/>
            <a:ext cx="4334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89e0"/>
                </a:solidFill>
                <a:latin typeface="Arial"/>
              </a:rPr>
              <a:t>THANK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92C876-2FD3-4689-AED7-5388A8A14ED3}" type="slidenum">
              <a:t>7</a:t>
            </a:fld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3T11:36:04Z</dcterms:created>
  <dc:creator>Dokumentation</dc:creator>
  <dc:description/>
  <dc:language>en-US</dc:language>
  <cp:lastModifiedBy>wyz</cp:lastModifiedBy>
  <cp:lastPrinted>2000-02-15T10:00:28Z</cp:lastPrinted>
  <dcterms:modified xsi:type="dcterms:W3CDTF">2005-09-08T02:33:57Z</dcterms:modified>
  <cp:revision>385</cp:revision>
  <dc:subject/>
  <dc:title>Kein Folientitel</dc:title>
</cp:coreProperties>
</file>